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C886B-8306-45E6-AA9B-2A2FC7D4C15D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CDC22-998F-45B6-BEF6-9B25E4BAC798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50B2C-0E9A-4330-A086-B0417A00C539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D56C5-54BC-4DCC-9660-1EAC63BD47BE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3762D-3ED4-41B2-9B8F-10B1F74AD825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EC73E-6F3A-4B41-AB94-6FBA4BBC0607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7CBDA-E644-4C24-B602-62F3A748B488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432B8-506F-49C6-A358-9B4CD4D9FDF3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B9094-D04F-47BC-928D-0DD26D275FD4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82AF2-7F02-4C21-AE45-7C24D115382B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3B390-D79D-4764-9299-1F48249293BB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F2C00-1839-49CE-B59B-3B91E69529A8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3C484-2496-4420-B91A-F35F84279687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24C71-E702-42C8-BF41-FF3AB80DC910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13511-F24B-40E6-996B-0D722C673AE0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B440E-C269-4EEF-955E-D431E657A5FC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65D3E-0BA0-488C-A94F-6DDFB37143EB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623BB-00BE-4AD8-9C06-8D17EAD7CFD4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23541-D38B-42C8-BAB5-6A553BAA5862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E483D-5322-4FB5-A732-8BB720AAB12D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25C14-FFBF-414E-9F1F-1822ABEAC4B6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DE1CA-2C09-49B1-A5A8-88A8F044C4D2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CED80-54CB-4550-AF10-B15FF0DBA92E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0E2E-CA02-4CAF-B74A-2EE241F27E63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6568A-41D7-44BF-956F-093185F812D5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76417-7CAD-4FCE-9406-FEB65DB50CEE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7F448-0C1A-4531-9D38-D15DF3EAD817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79607-DA74-4385-B10A-93569C9C5482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F47E1-2BD9-4AD5-BABE-D3184F310BB9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B33E9-5F10-4CF8-A9D5-6585ECF35C2E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7D681-4C67-46E7-AE18-836CB632072A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D4E54-189E-48FF-BF71-0F63117C5065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58C78-453E-4756-B255-22567E06FE4D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DAA6A-4E99-4885-9078-42F8865855AE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DB6A6-F4B9-4EA8-A9B7-C5967B335D7F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63F2-18C7-4204-98B9-9D0CF6A69C53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8734A-7DCB-4A24-8DCA-7851A209C0B9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F7010-8079-4DF3-A53A-4964392E9FB7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9CF49-916E-49C4-94FE-E831AB816A2A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51C6B-A21E-4F10-BD34-4A78C8683F91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6BEF0-9BD2-4F4A-9121-3968563B97F0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7BEA4-A1C3-4F9E-A6F5-8DB71B890C59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B12E1-6B6C-492F-A842-7D12B08664FC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1E37-C0B7-4F7A-B515-A15705BC1594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7837-1ED0-4ED8-B120-131B5A863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7D8A-9CC3-4994-BCB9-CC048A5A1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25CB-FA20-4613-A40B-C01D84FDE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1DD3-F953-49B3-A07B-20E7F21BB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0191-8320-4631-87A9-A4AF38FAC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D266-251D-4408-949C-818912E48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B6BC-E19C-4593-B900-E1E71D65D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37A2-8638-4ECE-B1B5-2E8660BBA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2C16-4276-4390-9F08-7C536C02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2FFB-2A7D-438B-88B9-8DF18BB2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0231-76A7-45BE-B127-E9C53F41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E5A5-42D1-4009-9E04-777C5F05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2349D-A8E2-4A31-8F37-4D2DADB78C5B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l-GR" sz="4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4000" y="1052640"/>
            <a:ext cx="8496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9999"/>
                </a:solidFill>
                <a:latin typeface="Arial"/>
              </a:rPr>
              <a:t>ΑΝΟΣΟΑΙΜΑΤΟΛΟΓΙΑ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9999"/>
                </a:solidFill>
                <a:latin typeface="Arial"/>
              </a:rPr>
              <a:t>ΚΑ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9999"/>
                </a:solidFill>
                <a:latin typeface="Arial"/>
              </a:rPr>
              <a:t>ΟΜΑΔΕΣ ΑΙΜΑΤΟ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rcRect l="9864" t="11599" r="6182" b="8541"/>
          <a:stretch/>
        </p:blipFill>
        <p:spPr>
          <a:xfrm>
            <a:off x="1143000" y="127080"/>
            <a:ext cx="7143840" cy="66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ΛΕΙΤΟΥΡΓΙΑ ΤΩΝ ΑΝΤΙΣΩΜΑΤΩ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820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95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Τα αντισώματα συνδέονται με τα αντιγόνα και προκαλούν την καταστροφή τους, με τους ακόλουθους μηχανισμού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5160" indent="-609480">
              <a:spcBef>
                <a:spcPts val="799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Ενίσχυση της μη ειδικής ανο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5160" indent="-609480">
              <a:spcBef>
                <a:spcPts val="799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Συγκόλλ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5160" indent="-609480">
              <a:spcBef>
                <a:spcPts val="799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Εξουδετέρωση - αδρανοποί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ΠΡΩΤΟΓΕΝΕΙΣ ΑΠΑΝΤΗΣΕΙ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820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5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Μετά την 1</a:t>
            </a:r>
            <a:r>
              <a:rPr b="1" lang="el-GR" sz="3200" spc="-1" strike="noStrike" baseline="30000">
                <a:solidFill>
                  <a:srgbClr val="002060"/>
                </a:solidFill>
                <a:latin typeface="Arial"/>
              </a:rPr>
              <a:t>η</a:t>
            </a: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 έκθεση σε ένα αντιγόνο, η ανοσολογική απάντηση χρειάζεται μερικές εβδομάδες για να αναπτυχθεί. Αυτή ονομάζεται </a:t>
            </a:r>
            <a:r>
              <a:rPr b="1" lang="el-GR" sz="3200" spc="-1" strike="noStrike" u="sng">
                <a:solidFill>
                  <a:srgbClr val="002060"/>
                </a:solidFill>
                <a:uFillTx/>
                <a:latin typeface="Arial"/>
              </a:rPr>
              <a:t>πρωτογενής απάντηση</a:t>
            </a: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Εμφανίζεται σχετικά αργά. Τα αντισώματα αρχικά αυξάνουν και μετά πέφτουν σε χαμηλότερα επίπεδ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Τα παραγόμενα αντισώματα είναι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Ig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ΔΕΥΤΕΡΟΓΕΝΕΙΣ ΑΠΑΝΤΗΣΕΙ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24000" y="1196640"/>
            <a:ext cx="8820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5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Σε κάθε επόμενη έκθεση σε αντιγόνα, η παραγωγή αντισωμάτων είναι ταχύτατη, γιατί υπάρχουν τα κύτταρα μνήμης που οδηγούν σε ταχεία αντίδραση. Αυτή είναι η </a:t>
            </a:r>
            <a:r>
              <a:rPr b="1" lang="el-GR" sz="3000" spc="-1" strike="noStrike" u="sng">
                <a:solidFill>
                  <a:srgbClr val="002060"/>
                </a:solidFill>
                <a:uFillTx/>
                <a:latin typeface="Arial"/>
              </a:rPr>
              <a:t>δευτερογενής απάντηση</a:t>
            </a: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Τα αντισώματα της δευτερογενούς απάντησης είναι </a:t>
            </a:r>
            <a:r>
              <a:rPr b="1" lang="en-US" sz="3000" spc="-1" strike="noStrike">
                <a:solidFill>
                  <a:srgbClr val="002060"/>
                </a:solidFill>
                <a:latin typeface="Arial"/>
              </a:rPr>
              <a:t>Ig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Η ενισχυμένη αυτή απάντηση μπορεί να καταστρέψει έναν παθογόνο κύτταρο, πριν προκαλέσει συμπτώματα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ΠΑΡΑΓΟΝΤΕΣ ΑΝΟΣΟΛΟΓΙΚΗΣ ΑΠΑΝΤΗΣΗ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Η ανοσολογική απάντηση εξαρτάται από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Τη δομή του αντιγόνο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Την ποσότητα του αντιγόνο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Την οδό εισόδου του αντιγόνο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Τη συχνότητα του αντιγόνου στον πληθυσμ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Σημαντικό ρόλο παίζουν τα Η</a:t>
            </a:r>
            <a:r>
              <a:rPr b="1" lang="en-US" sz="3000" spc="-1" strike="noStrike">
                <a:solidFill>
                  <a:srgbClr val="002060"/>
                </a:solidFill>
                <a:latin typeface="Arial"/>
              </a:rPr>
              <a:t>L</a:t>
            </a: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Α μόρια που βρίσκονται στην επιφάνεια όλων των κυττάρω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ΕΙΔΗ ΑΝΤΙΣΩΜΑΤΩΝ ΣΤΗΝ ΑΝΟΣΟΑΙΜΑΤΟΛΟΓΙ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cc3300"/>
                </a:solidFill>
                <a:latin typeface="Arial"/>
              </a:rPr>
              <a:t>Φυσικά</a:t>
            </a:r>
            <a:r>
              <a:rPr b="1" lang="en-US" sz="3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l-GR" sz="3000" spc="-1" strike="noStrike">
                <a:solidFill>
                  <a:srgbClr val="cc3300"/>
                </a:solidFill>
                <a:latin typeface="Arial"/>
              </a:rPr>
              <a:t>αντισώματα</a:t>
            </a:r>
            <a:r>
              <a:rPr b="1" lang="el-GR" sz="30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Υπάρχουν στον ορό χωρίς προηγούμενη έκθεση. Π.χ. τα αντισώματα του συστήματος</a:t>
            </a:r>
            <a:r>
              <a:rPr b="1" lang="en-US" sz="3000" spc="-1" strike="noStrike">
                <a:solidFill>
                  <a:srgbClr val="002060"/>
                </a:solidFill>
                <a:latin typeface="Arial"/>
              </a:rPr>
              <a:t> ABO. </a:t>
            </a: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Είναι κυρίως </a:t>
            </a:r>
            <a:r>
              <a:rPr b="1" lang="en-US" sz="3000" spc="-1" strike="noStrike">
                <a:solidFill>
                  <a:srgbClr val="002060"/>
                </a:solidFill>
                <a:latin typeface="Arial"/>
              </a:rPr>
              <a:t>IgM</a:t>
            </a: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cc3300"/>
                </a:solidFill>
                <a:latin typeface="Arial"/>
              </a:rPr>
              <a:t>Ανοσα αντισώματα</a:t>
            </a:r>
            <a:r>
              <a:rPr b="1" lang="el-GR" sz="30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Παράγονται μετά από έκθεση. Είναι κυρίως </a:t>
            </a:r>
            <a:r>
              <a:rPr b="1" lang="en-US" sz="3000" spc="-1" strike="noStrike">
                <a:solidFill>
                  <a:srgbClr val="cc3300"/>
                </a:solidFill>
                <a:latin typeface="Arial"/>
              </a:rPr>
              <a:t>Ig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ΕΡΥΘΡΟΚΥΤΤΑΡΙΚΗ ΜΕΜΒΡΑΝ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79280" y="148392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Η ερυθροκυτταρική μεμβράνη αποτελείται από μια διπλοστιβάδα λιπιδίων, με κύρια συστατικά </a:t>
            </a:r>
            <a:r>
              <a:rPr b="1" lang="el-GR" sz="2400" spc="-1" strike="noStrike">
                <a:solidFill>
                  <a:srgbClr val="cc3300"/>
                </a:solidFill>
                <a:latin typeface="Arial"/>
              </a:rPr>
              <a:t>(α) τα λιπίδια και (β) πρωτεϊνες</a:t>
            </a: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Τα φωσφολιπίδια έχουν διάταξη διπλοστιβάδας με τα υδρόφοβα τμήματα προς τα μέσα και τα υδρόφιλα προς τα έξ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Οι πρωτεϊνες είναι διαμεμβρανιακές ή στη μια πλευρά της μεμβράνη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ΕΡΥΘΡΟΚΥΤΤΑΡΙΚΕΣ ΠΡΩΤΕΪΝΕ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79280" y="1844640"/>
            <a:ext cx="8640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057400" indent="-44136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Σπεκτρίν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7400" indent="-44136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Ακτίν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7400" indent="-44136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Γλυκοφορίνε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7400" indent="-44136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Πρωτεϊνη 4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7400" indent="-44136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Πρωτεϊνη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ΕΡΥΘΡΟΚΥΤΤΑΡΙΚΑ ΑΝΤΙΓΟΝ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79280" y="148392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44136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Το τμήμα της διαμεμβρανιακής πρωτεϊνης που εξέχει από την μεμβράνη προσδίδει τις αντιγονικές ιδιότητε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44136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Το ερυθρό αιμοσφαίριο, στο στάδιο της ερυθροβλάστης, έχει πολύ μεγάλο αριθμό αντιγόνων. Με την ωρίμανση, ο αριθμός μειώνεται, αλλά παραμένου αρκετά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44136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Υπάρχουν τουλάχιστον 25 συστήματα αντιγόνων, που καθορίζουν τις ομάδες αίματο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ΟΜΑΔΕΣ ΑΙΜΑΤΟ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79280" y="148392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44136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Καθορίζονται από συστήματα αντιγόνων, που επηρεάζουν τις αντιδράσεις μεταξύ των 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ερυθρώ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44136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Οι αντιδράσεις μπορεί να είναι ακόμη και θανατηφόρε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44136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Έχουν μεγάλη σημασία στις μεταγγίσει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ΑΝΟΣΟΑΙΜΑΤΟΛΟΓΙ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79280" y="148392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Το ανοσολογικό σύστημ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- αναγνωρίζει τα κύτταρα του δικού του οργανισμού και δεν αντιδρά (πλην παθολογικών καταστάσεω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- αναγνωρίζει τα κύτταρα άλλων οργανισμών ως ξένα και αντιδρά σ΄ αυτά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ΣΥΣΤΗΜΑ ΑΒΟ: </a:t>
            </a:r>
            <a:br>
              <a:rPr sz="4000"/>
            </a:b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ΑΝΤΙΓΟΝΑ ΣΤΑ ΕΡΥΘΡ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24000" y="169992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441360">
              <a:spcBef>
                <a:spcPts val="601"/>
              </a:spcBef>
              <a:spcAft>
                <a:spcPts val="165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Υπάρχουν δύο αντιγόνα: Α και 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44136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Οι συνδυασμοί στην παρουσία τους δημιουργούν τέσσερις ομάδε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lang="el-GR" sz="2400" spc="-1" strike="noStrike">
                <a:solidFill>
                  <a:srgbClr val="cc3300"/>
                </a:solidFill>
                <a:latin typeface="Arial"/>
              </a:rPr>
              <a:t>Κανένα:</a:t>
            </a: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Ομάδα Ο         (42,5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lang="el-GR" sz="2400" spc="-1" strike="noStrike">
                <a:solidFill>
                  <a:srgbClr val="cc3300"/>
                </a:solidFill>
                <a:latin typeface="Arial"/>
              </a:rPr>
              <a:t>Μόνο Α:</a:t>
            </a: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Ομάδα Α         (42,5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lang="el-GR" sz="2400" spc="-1" strike="noStrike">
                <a:solidFill>
                  <a:srgbClr val="cc3300"/>
                </a:solidFill>
                <a:latin typeface="Arial"/>
              </a:rPr>
              <a:t>Μόνο Β:</a:t>
            </a: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Ομάδα Β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lang="el-GR" sz="2400" spc="-1" strike="noStrike">
                <a:solidFill>
                  <a:srgbClr val="cc3300"/>
                </a:solidFill>
                <a:latin typeface="Arial"/>
              </a:rPr>
              <a:t>Α και Β:</a:t>
            </a: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Ομάδα Α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963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ΑΒΟ: ΑΝΤΙΣΩΜΑΤΑ ΣΤΟ ΠΛΑΣΜ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24000" y="1483920"/>
            <a:ext cx="849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44136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Στο πλάσμα υπάρχουν πάντοτε τα </a:t>
            </a:r>
            <a:r>
              <a:rPr b="1" lang="el-GR" sz="2400" spc="-1" strike="noStrike">
                <a:solidFill>
                  <a:srgbClr val="cc3300"/>
                </a:solidFill>
                <a:latin typeface="Arial"/>
              </a:rPr>
              <a:t>αντισώματα ενάντια στα αντιγόνα που ΔΕΝ υπάρχουν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στα ερυθροκύτταρα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l-GR" sz="2400" spc="-1" strike="noStrike">
                <a:solidFill>
                  <a:srgbClr val="cc3300"/>
                </a:solidFill>
                <a:latin typeface="Arial"/>
              </a:rPr>
              <a:t>Ομάδα Ο:</a:t>
            </a: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αντι-Α και αντι-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l-GR" sz="2400" spc="-1" strike="noStrike">
                <a:solidFill>
                  <a:srgbClr val="cc3300"/>
                </a:solidFill>
                <a:latin typeface="Arial"/>
              </a:rPr>
              <a:t>Ομάδα Α:</a:t>
            </a: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αντι-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l-GR" sz="2400" spc="-1" strike="noStrike">
                <a:solidFill>
                  <a:srgbClr val="cc3300"/>
                </a:solidFill>
                <a:latin typeface="Arial"/>
              </a:rPr>
              <a:t>Ομάδα Β:</a:t>
            </a: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αντι-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l-GR" sz="2400" spc="-1" strike="noStrike">
                <a:solidFill>
                  <a:srgbClr val="cc3300"/>
                </a:solidFill>
                <a:latin typeface="Arial"/>
              </a:rPr>
              <a:t>Ομάδα ΑΒ: 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κανέν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7" descr=""/>
          <p:cNvPicPr/>
          <p:nvPr/>
        </p:nvPicPr>
        <p:blipFill>
          <a:blip r:embed="rId1"/>
          <a:srcRect l="0" t="9412" r="0" b="5330"/>
          <a:stretch/>
        </p:blipFill>
        <p:spPr>
          <a:xfrm>
            <a:off x="762120" y="1643040"/>
            <a:ext cx="7619760" cy="4572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"/>
          <p:cNvSpPr/>
          <p:nvPr/>
        </p:nvSpPr>
        <p:spPr>
          <a:xfrm>
            <a:off x="755640" y="490680"/>
            <a:ext cx="77724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ΣΥΣΤΗΜΑ ΑΒ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ΑΝΤΙΓΟΝΟ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79280" y="1483920"/>
            <a:ext cx="89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441360">
              <a:spcBef>
                <a:spcPts val="601"/>
              </a:spcBef>
              <a:spcAft>
                <a:spcPts val="15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Είναι γενετικά 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ανεξάρτητο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από το ΑΒ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441360">
              <a:spcBef>
                <a:spcPts val="601"/>
              </a:spcBef>
              <a:spcAft>
                <a:spcPts val="15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Αποτελεί προϋπόθεση για την ύπαρξη των αντιγόνων   Α και 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441360">
              <a:spcBef>
                <a:spcPts val="601"/>
              </a:spcBef>
              <a:spcAft>
                <a:spcPts val="15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Επί απουσίας του Η, η δημιουργία των άλλων δύο είναι </a:t>
            </a:r>
            <a:r>
              <a:rPr b="1" lang="el-GR" sz="2400" spc="-1" strike="noStrike" u="sng">
                <a:solidFill>
                  <a:srgbClr val="002060"/>
                </a:solidFill>
                <a:uFillTx/>
                <a:latin typeface="Arial"/>
              </a:rPr>
              <a:t>αδύνατ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ΣΗΜΑΣΙΑ ΣΤΗΝ ΑΙΜΟΔΟΣΙ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79280" y="148392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441360">
              <a:spcBef>
                <a:spcPts val="601"/>
              </a:spcBef>
              <a:spcAft>
                <a:spcPts val="15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Όταν συναντηθούν κύτταρα ομάδας Α με αντισώματα αντι-Α, έχουμε αντίδραση και καταστροφή ερυθρώ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441360">
              <a:spcBef>
                <a:spcPts val="601"/>
              </a:spcBef>
              <a:spcAft>
                <a:spcPts val="1500"/>
              </a:spcAft>
              <a:buClr>
                <a:srgbClr val="a2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a22700"/>
                </a:solidFill>
                <a:latin typeface="Arial"/>
              </a:rPr>
              <a:t>Η ομάδα Ο μπορεί να </a:t>
            </a:r>
            <a:r>
              <a:rPr b="1" lang="el-GR" sz="2400" spc="-1" strike="noStrike" u="sng">
                <a:solidFill>
                  <a:srgbClr val="a22700"/>
                </a:solidFill>
                <a:uFillTx/>
                <a:latin typeface="Arial"/>
              </a:rPr>
              <a:t>δίνει</a:t>
            </a:r>
            <a:r>
              <a:rPr b="1" lang="el-GR" sz="2400" spc="-1" strike="noStrike">
                <a:solidFill>
                  <a:srgbClr val="a22700"/>
                </a:solidFill>
                <a:latin typeface="Arial"/>
              </a:rPr>
              <a:t> αίμα σε όλες</a:t>
            </a: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τις ομάδες, γιατί δεν έχει αντιγόν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441360">
              <a:spcBef>
                <a:spcPts val="601"/>
              </a:spcBef>
              <a:buClr>
                <a:srgbClr val="a2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a22700"/>
                </a:solidFill>
                <a:latin typeface="Arial"/>
              </a:rPr>
              <a:t>Η ομάδα ΑΒ μπορεί να </a:t>
            </a:r>
            <a:r>
              <a:rPr b="1" lang="el-GR" sz="2400" spc="-1" strike="noStrike" u="sng">
                <a:solidFill>
                  <a:srgbClr val="a22700"/>
                </a:solidFill>
                <a:uFillTx/>
                <a:latin typeface="Arial"/>
              </a:rPr>
              <a:t>παίρνει</a:t>
            </a:r>
            <a:r>
              <a:rPr b="1" lang="el-GR" sz="2400" spc="-1" strike="noStrike">
                <a:solidFill>
                  <a:srgbClr val="a22700"/>
                </a:solidFill>
                <a:latin typeface="Arial"/>
              </a:rPr>
              <a:t> αίμα από όλες</a:t>
            </a: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τις ομάδες, γιατί δεν έχει αντισώματ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850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ΓΟΝΙΔΙΑ ΤΟΥ ΣΥΣΤΗΜΑΤΟΣ ΑΒ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24000" y="1341360"/>
            <a:ext cx="84960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Υπάρχουν 3 αλληλόμορφα γονίδια: Α, Β, 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Εδράζονται στο μακρό σκέλος του χρωμοσώματος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Κληρονομούνται κατά τον αυτόσωμο συνεπικρατούντα χαρακτήρ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002060"/>
                </a:solidFill>
                <a:uFillTx/>
                <a:latin typeface="Arial"/>
              </a:rPr>
              <a:t>ΕΚΦΡΑΣΗ ΤΩΝ ΓΟΝΙΔΙ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Τα γονίδια Α και Β </a:t>
            </a:r>
            <a:r>
              <a:rPr b="1" lang="el-GR" sz="2400" spc="-1" strike="noStrike" u="sng">
                <a:solidFill>
                  <a:srgbClr val="002060"/>
                </a:solidFill>
                <a:uFillTx/>
                <a:latin typeface="Arial"/>
              </a:rPr>
              <a:t>δεν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 παράγουν απευθείας τα αντιγόνα Α και Β, αλλ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Παράγουν δύ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o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 ένζυμα, τις 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τρανσφεράσες Α και Β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 που ευθύνονται για τη 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μετατροπή του αντιγόνου Η σε Α και Β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 αντίστοιχα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Το γονίδιο 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Ο δεν παράγει ένζυμο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και έτσι υπάρχει 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μόνο Η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αντιγόν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ΦΑΙΝΟΤΥΠΟΣ ΚΑΙ ΓΟΝΟΤΥΠΟΣ ΤΟΥ ΑΒ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l-GR" sz="1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539640" y="2109960"/>
            <a:ext cx="7834320" cy="27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ΥΠΟΟΜΑΔΕΣ ΑΒ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23640" y="1773360"/>
            <a:ext cx="835164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Η ομάδα Α αποτελείται από τις υποομάδες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206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, A</a:t>
            </a:r>
            <a:r>
              <a:rPr b="1" lang="en-US" sz="2400" spc="-1" strike="noStrike" baseline="-25000">
                <a:solidFill>
                  <a:srgbClr val="00206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, A</a:t>
            </a:r>
            <a:r>
              <a:rPr b="1" lang="en-US" sz="2400" spc="-1" strike="noStrike" baseline="-25000">
                <a:solidFill>
                  <a:srgbClr val="00206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, ... A</a:t>
            </a:r>
            <a:r>
              <a:rPr b="1" lang="en-US" sz="2400" spc="-1" strike="noStrike" baseline="-25000">
                <a:solidFill>
                  <a:srgbClr val="002060"/>
                </a:solidFill>
                <a:latin typeface="Arial"/>
              </a:rPr>
              <a:t>x</a:t>
            </a:r>
            <a:r>
              <a:rPr b="1" lang="el-GR" sz="2400" spc="-1" strike="noStrike" baseline="-25000">
                <a:solidFill>
                  <a:srgbClr val="00206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με κυριότερες τις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2060"/>
                </a:solidFill>
                <a:latin typeface="Arial"/>
              </a:rPr>
              <a:t>1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 και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 A</a:t>
            </a:r>
            <a:r>
              <a:rPr b="1" lang="en-US" sz="2400" spc="-1" strike="noStrike" baseline="-25000">
                <a:solidFill>
                  <a:srgbClr val="00206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Η ομάδα Β έχει επίσης υποομάδες, αλλά λιγότερε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Η ομάδα ΑΒ παρουσιάζει υποομάδες ανάλογα με τις υποομάδες των Α και Β που την αποτελού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ΣΥΧΝΟΤΗΤΑ ΟΜΑΔΩΝ ΑΒ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2195280" y="1773360"/>
            <a:ext cx="662436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35100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002060"/>
                </a:solidFill>
                <a:latin typeface="Arial"/>
              </a:rPr>
              <a:t>1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3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002060"/>
                </a:solidFill>
                <a:latin typeface="Arial"/>
              </a:rPr>
              <a:t>2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  8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Β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14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002060"/>
                </a:solidFill>
                <a:latin typeface="Arial"/>
              </a:rPr>
              <a:t>1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Β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  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002060"/>
                </a:solidFill>
                <a:latin typeface="Arial"/>
              </a:rPr>
              <a:t>2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Ο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4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5 - Δεξιό άγκιστρο"/>
          <p:cNvSpPr/>
          <p:nvPr/>
        </p:nvSpPr>
        <p:spPr>
          <a:xfrm>
            <a:off x="3564000" y="4005360"/>
            <a:ext cx="71280" cy="792000"/>
          </a:xfrm>
          <a:custGeom>
            <a:avLst/>
            <a:gdLst>
              <a:gd name="textAreaLeft" fmla="*/ 0 w 71280"/>
              <a:gd name="textAreaRight" fmla="*/ 25560 w 71280"/>
              <a:gd name="textAreaTop" fmla="*/ 1800 h 792000"/>
              <a:gd name="textAreaBottom" fmla="*/ 7902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1"/>
                  <a:pt x="10800" y="162"/>
                </a:cubicBezTo>
                <a:lnTo>
                  <a:pt x="10800" y="10638"/>
                </a:lnTo>
                <a:cubicBezTo>
                  <a:pt x="10800" y="10719"/>
                  <a:pt x="16200" y="10800"/>
                  <a:pt x="21600" y="10800"/>
                </a:cubicBezTo>
                <a:cubicBezTo>
                  <a:pt x="16200" y="10800"/>
                  <a:pt x="10800" y="10881"/>
                  <a:pt x="10800" y="10962"/>
                </a:cubicBezTo>
                <a:lnTo>
                  <a:pt x="10800" y="21438"/>
                </a:lnTo>
                <a:cubicBezTo>
                  <a:pt x="10800" y="21519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2d2d8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ΠΡΟΣΔΙΟΡΙΣΜΟΣ ΟΜΑΔΩΝ ΑΙΜΑΤΟΣ ΑΒ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35100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cc3300"/>
                </a:solidFill>
                <a:latin typeface="Arial"/>
              </a:rPr>
              <a:t>Προσδιορισμός ερυθροκυτταρικών αντιγόνων Α και Β σε πλάκ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Χρησιμοποιούνται γνωστοί αντιορο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αντι-Α, αντι-Β αντι-Α,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cc3300"/>
                </a:solidFill>
                <a:latin typeface="Arial"/>
              </a:rPr>
              <a:t>Προσδιορισμός αντισωμάτων αντι-Α και αντι-Β στον ορ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Χρησιμοποιείται εναιώρημα γνωστώ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ερυθροκυττάρων ομάδων Α, Β, 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ΑΝΑΓΝΩΡΙΣΗ ΞΕΝΩΝ ΚΥΤΤΑΡΩ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79280" y="148392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Η αναγνώριση βασίζεται σε ειδικά μόρια που βρίσκονται στην επιφάνεια των κυττάρων, </a:t>
            </a:r>
            <a:r>
              <a:rPr b="1" lang="el-GR" sz="3200" spc="-1" strike="noStrike">
                <a:solidFill>
                  <a:srgbClr val="ff0000"/>
                </a:solidFill>
                <a:latin typeface="Arial"/>
              </a:rPr>
              <a:t>τα αντιγόνα</a:t>
            </a: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0000"/>
                </a:solidFill>
                <a:latin typeface="Arial"/>
              </a:rPr>
              <a:t>Αντιγόνο</a:t>
            </a: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είναι κάθε ουσία που όταν εισέλθει στον οργανισμό προκαλεί ανοσολογική απάντηση. Είναι συνήθως σύνθετες πρωτεϊνες, ο αριθμός των οποίων είναι εξαιρετικά μεγάλο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7161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ΠΡΟΣΔΙΟΡΙΣΜΟΣ ΟΜΑΔΩΝ ΑΙΜΑΤΟΣ ΑΒ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l-GR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258920" y="1844640"/>
            <a:ext cx="634356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ΠΑΡΑΓΟΝΤΑΣ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RHES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Το αίμα μπορεί να είναι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Rhesus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 θετικό ή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Rhesus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 αρνητικ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Αυτό εξαρτάται από την ύπαρξη του </a:t>
            </a:r>
            <a:r>
              <a:rPr b="1" lang="el-GR" sz="2400" spc="-1" strike="noStrike" u="sng">
                <a:solidFill>
                  <a:srgbClr val="ff0000"/>
                </a:solidFill>
                <a:uFillTx/>
                <a:latin typeface="Arial"/>
              </a:rPr>
              <a:t>αντιγόνου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he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Υπάρχουν 3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Rhesus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C, D, E (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συχνότερο το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D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85% των Ευρωπαίων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Rhesus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 θετικο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ΑΝΤΙΣΩΜΑΤΑ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RHES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3510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Φυσικά αντισώματα αντι-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hesus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l-GR" sz="2400" spc="-1" strike="noStrike" u="sng">
                <a:solidFill>
                  <a:srgbClr val="ff0000"/>
                </a:solidFill>
                <a:uFillTx/>
                <a:latin typeface="Arial"/>
              </a:rPr>
              <a:t>δεν υπάρχου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Αρα, σε μια πρώτη μετάγγιση δεν μπορεί να υπάρξει συγκόλληση και αιμόλυσ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ff0000"/>
                </a:solidFill>
                <a:uFillTx/>
                <a:latin typeface="Arial"/>
              </a:rPr>
              <a:t>Μπορεί όμως να υπάρξει ευαισθητοποίηση και παραγωγή άνοσων αντι-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hesus</a:t>
            </a:r>
            <a:r>
              <a:rPr b="1" lang="el-GR" sz="2400" spc="-1" strike="noStrike" u="sng">
                <a:solidFill>
                  <a:srgbClr val="ff0000"/>
                </a:solidFill>
                <a:uFillTx/>
                <a:latin typeface="Arial"/>
              </a:rPr>
              <a:t> αντισωμάτων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Οπότε μπορεί να υπάρξει αντίδραση σε δεύτερη μετάγγισ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ΕΥΑΙΣΘΗΤΟΠΟΙΗΣΗ ΣΤΟΝ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RHES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324000" y="1483920"/>
            <a:ext cx="849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Ευαισθητοποίηση στον παράγοντα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Rhesus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 μπορεί να υπάρξει και κατά τον τοκετό (όχι στην κύηση), όταν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Rhesus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 αρνητική μητέρα γεννά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Rhesus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θετικό παιδ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Σε επόμενη κύηση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hesus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 θετικού παιδιού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, μπορεί να υπάρξει 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αιμόλυση στο έμβρυο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, ίκτερος και απειλή της ζωής το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Για την αποφυγή της ευαισθητοποίησης, χορηγούνται 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στις αρνητικές μητέρες αντι-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αντισώματα μετά τον τοκετ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ΑΛΛΑ ΑΝΤΙΓΟΝΙΚΑ ΣΥΣΤΗΜΑΤ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2060"/>
                </a:solidFill>
                <a:latin typeface="Arial"/>
              </a:rPr>
              <a:t>Σήμερα είναι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αναγνωρισμένα 308 αντιγόν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270 αντιγόνα έχουν ταξινομηθεί σε 30 διακεκριμένες ομάδες αίματος από την ομάδα ISBT (International Society of Blood Transfusion) η οποία είναι υπεύθυνη για τον καθορισμό των επιφανειακών αντιγόνων των ερυθρώ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38 αντιγόνα δεν έχουν τυποποιηθεί σε κάποιο σύστημ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ΑΛΛΑ ΑΝΤΙΓΟΝΙΚΑ ΣΥΣΤΗΜΑΤ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24000" y="1483920"/>
            <a:ext cx="8712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Αντιγόνα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Kell (25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αντιγόν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Σύστημα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Duffy (2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αλληλόμορφα γονίδια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a, b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Σύστημα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Kidd (2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αλληλόμορφα γονίδια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a, b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Σύστημα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Lewis (2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αλληλόμορφα γονίδια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a, b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Σύστημα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Σύστημα 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Σύστημα ΜΝ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Σύστημα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Luthe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Σύστημα Χ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g  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κ.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9999"/>
                </a:solidFill>
                <a:latin typeface="Arial"/>
              </a:rPr>
              <a:t>ΑΝΤΙΓΟΝΙΚΑ ΣΥΣΤΗΜΑΤΑ ΣΤΟ ΑΙΜ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F:\TEI-Λ\ΑΙΜΟΔΟΣΙΑ\imagemap.gif"/>
          <p:cNvPicPr/>
          <p:nvPr/>
        </p:nvPicPr>
        <p:blipFill>
          <a:blip r:embed="rId1"/>
          <a:stretch/>
        </p:blipFill>
        <p:spPr>
          <a:xfrm>
            <a:off x="1619280" y="1874880"/>
            <a:ext cx="553392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5694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ΜΕΤΑΓΓΙΣΕΙΣ ΚΑΙ </a:t>
            </a:r>
            <a:br>
              <a:rPr sz="4000"/>
            </a:b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ΑΝΤΙΔΡΑΣΕΙΣ ΑΣΥΜΒΑΤΟΤΗΤΑ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Τα αντισώματα που υπάρχουν στον ορό του δότη δεν προκαλούν πρόβλημα, γιατί θα αραιωθού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Σε ασθενή με άγνωστη ομάδα αίματο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αίμα 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Rh-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 χορηγείται μόνο αν απειλείται η ζωή το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Σε όλες τις άλλες περιπτώσεις, επιδιώκεται η χορήγηση ίδιας ομάδας αίματο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ΔΟΤΕΣ ΚΑΙ ΔΕΚΤΕΣ ΑΙΜΑΤΟ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1531800" y="1844640"/>
            <a:ext cx="577692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96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ΚΥΤΤΑΡΑ ΤΟΥ ΑΝΟΣΟΠΟΙΗΤΙΚΟΥ ΣΥΣΤΗΜΑΤΟ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79280" y="148392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6600" indent="-51444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0000"/>
                </a:solidFill>
                <a:latin typeface="Arial"/>
              </a:rPr>
              <a:t>Φαγοκύτταρ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- Πολυμορφοπύρην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- Μονοπύρην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0000"/>
                </a:solidFill>
                <a:latin typeface="Arial"/>
              </a:rPr>
              <a:t>2. Λεμφοκύτταρ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- Β λεμφοκύτταρα  → Χυμική ανο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- Τ λεμφοκύτταρα 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→ Κυτταρική ανο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5694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ΕΛΕΓΧΟΣ ΑΣΥΜΒΑΤΟΤΗΤΑΣ: ΔΙΑΣΤΑΥΡΩΣ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(α) Κύτταρα του δότη αναμειγνύονται με πλάσμα του δέκτη  και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(β) κύτταρα του δέκτη με πλάσμα του δότη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Δεν πρέπει να υπάρχει συγκόλληση σε καμία από τις 2 περιπτώσει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341360" y="2205000"/>
            <a:ext cx="6326280" cy="25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9999"/>
                </a:solidFill>
                <a:latin typeface="Arial"/>
              </a:rPr>
              <a:t>ΕΛΕΓΧΟΣ ΟΜΑΔΩΝ ΑΙΜΑΤΟ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F:\TEI-Λ\ΑΙΜΟΔΟΣΙΑ\bloodchart.gif"/>
          <p:cNvPicPr/>
          <p:nvPr/>
        </p:nvPicPr>
        <p:blipFill>
          <a:blip r:embed="rId1"/>
          <a:stretch/>
        </p:blipFill>
        <p:spPr>
          <a:xfrm>
            <a:off x="2484360" y="1658880"/>
            <a:ext cx="3959280" cy="4830840"/>
          </a:xfrm>
          <a:prstGeom prst="rect">
            <a:avLst/>
          </a:prstGeom>
          <a:ln w="0">
            <a:noFill/>
          </a:ln>
        </p:spPr>
      </p:pic>
      <p:sp>
        <p:nvSpPr>
          <p:cNvPr id="136" name="Ορθογώνιο 1"/>
          <p:cNvSpPr/>
          <p:nvPr/>
        </p:nvSpPr>
        <p:spPr>
          <a:xfrm>
            <a:off x="2340000" y="2421000"/>
            <a:ext cx="1295280" cy="38876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9999"/>
                </a:solidFill>
                <a:latin typeface="Arial"/>
              </a:rPr>
              <a:t>ΕΛΕΓΧΟΣ ΟΜΑΔΩΝ ΑΙΜΑΤΟ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F:\TEI-Λ\ΑΙΜΟΔΟΣΙΑ\bloodchart.gif"/>
          <p:cNvPicPr/>
          <p:nvPr/>
        </p:nvPicPr>
        <p:blipFill>
          <a:blip r:embed="rId1"/>
          <a:stretch/>
        </p:blipFill>
        <p:spPr>
          <a:xfrm>
            <a:off x="2484360" y="1658880"/>
            <a:ext cx="3959280" cy="48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96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ΧΥΜΙΚΗ ΑΝΟΣΙΑ - ΑΝΤΙΣΩΜΑΤ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79280" y="148392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1800" indent="-26964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Η χυμική ανοσία βασίζεται στα αντισώματ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61800" indent="-26964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Τα αντισώματα είναι πρωτεϊνες (ανοσοσφαιρίνες, γ-σφαιρίνες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61800" indent="-26964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Τα αντισώματα παράγονται από τα </a:t>
            </a:r>
            <a:r>
              <a:rPr b="1" lang="el-GR" sz="3000" spc="-1" strike="noStrike">
                <a:solidFill>
                  <a:srgbClr val="ff0000"/>
                </a:solidFill>
                <a:latin typeface="Arial"/>
              </a:rPr>
              <a:t>πλασματοκύτταρα</a:t>
            </a:r>
            <a:r>
              <a:rPr b="1" lang="el-GR" sz="3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που είναι η τελική μορφή της εξέλιξης των Β λεμφοκυττάρω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61800" indent="-26964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Κύριο γνώρισμα των αντισωμάτων: η </a:t>
            </a:r>
            <a:r>
              <a:rPr b="1" lang="el-GR" sz="3000" spc="-1" strike="noStrike">
                <a:solidFill>
                  <a:srgbClr val="ff0000"/>
                </a:solidFill>
                <a:latin typeface="Arial"/>
              </a:rPr>
              <a:t>ειδικότητ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ΔΟΜΗ ΤΩΝ ΑΝΤΙΣΩΜΑΤΩ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820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5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Είναι πρωτεϊνες γνωστές ως γ-σφαιρίνες ή ανοσοσφαιρίνες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(I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Αποτελούνται από 2 βαριές και 2 ελαφρές αλύσους σε σχήμα 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Μονομερές αντίσωμα: Με ένα Υ ( 2 θέσει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Διμερές αντίσωμα (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IgA)</a:t>
            </a: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: Με δύο 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Πενταμερές αντίσωμα: (Ι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gM)</a:t>
            </a: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: Με 5 Υ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7667640" y="4581360"/>
            <a:ext cx="333360" cy="543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2"/>
          <a:stretch/>
        </p:blipFill>
        <p:spPr>
          <a:xfrm>
            <a:off x="7885080" y="5084640"/>
            <a:ext cx="78120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ΔΟΜΗ ΤΩΝ ΑΝΤΙΣΩΜΑΤΩ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820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5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Η περιοχή που γίνεται η δέσμευση είναι η μεταβλητή περιοχή του αντισώματος, που μεταβάλλεται αναλόγως της ειδικότητας</a:t>
            </a:r>
            <a:r>
              <a:rPr b="1" lang="en-US" sz="3000" spc="-1" strike="noStrike">
                <a:solidFill>
                  <a:srgbClr val="002060"/>
                </a:solidFill>
                <a:latin typeface="Arial"/>
              </a:rPr>
              <a:t>.</a:t>
            </a: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Το υπόλοιπο τμήμα δεν μεταβάλλεται όταν μεταβάλλεται η ειδικότητα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Η διάσπαση των αντισωμάτων με ένζυμα δίνει 2 τμήματα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Το τμήμα που συνδέεται με το αντιγόνο</a:t>
            </a:r>
            <a:r>
              <a:rPr b="1" lang="el-GR" sz="3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30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Fab</a:t>
            </a:r>
            <a:r>
              <a:rPr b="1" lang="el-GR" sz="30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l-GR" sz="3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και το κρυσταλλικό τμήμα </a:t>
            </a:r>
            <a:r>
              <a:rPr b="1" lang="el-GR" sz="30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Fc)</a:t>
            </a:r>
            <a:r>
              <a:rPr b="1" lang="el-GR" sz="3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179280" y="260280"/>
            <a:ext cx="8785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ΔΟΜΗ ΤΩΝ ΑΝΤΙΣΩΜΑΤΩ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2124000" y="1090440"/>
            <a:ext cx="5327640" cy="50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9999"/>
                </a:solidFill>
                <a:latin typeface="Arial"/>
              </a:rPr>
              <a:t>ΕΙΔΗ ΑΝΤΙΣΩΜΑΤΩ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gG</a:t>
            </a:r>
            <a:r>
              <a:rPr b="1" lang="el-GR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l-G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Είναι οι πιο άφθονες ανοσοσφαιρίνες στο αίμα. Παράγονται σε μεγάλες ποσότητες κατά τη δευτερογενή απάντηση. Διευκολύνουν τη φαγοκυττάρωση και τη λύση των κυττάρω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gM</a:t>
            </a:r>
            <a:r>
              <a:rPr b="1" lang="el-GR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l-G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Είναι πενταμερή μόρια που εκκρίνονται πρώιμα. Διευκολύνουν τη συγκόλληση, τη φαγοκυττάρωση και την λύση των κυττάρω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gD</a:t>
            </a:r>
            <a:r>
              <a:rPr b="1" lang="el-GR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l-G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Είναι αντισώματα επιφανείας των λεμφοκυττάρων, με άγνωστο ρόλ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gA</a:t>
            </a:r>
            <a:r>
              <a:rPr b="1" lang="el-GR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l-G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Διμερή μόρια, που βρίσκονται στις εκκρίσεις σάλιου, δακρύων και γάλατο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gE</a:t>
            </a:r>
            <a:r>
              <a:rPr b="1" lang="el-GR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l-G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Παίζουν ρόλο στις παρασιτικές λοιμώξεις. Διεγείρουν την παραγωγή βραδυκινίνης, ισταμίνης και άλλων φλεγμονωδών μεσολαβητώ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8T16:00:50Z</dcterms:created>
  <dc:creator>a</dc:creator>
  <dc:description/>
  <dc:language>en-US</dc:language>
  <cp:lastModifiedBy>TEI LARISA</cp:lastModifiedBy>
  <dcterms:modified xsi:type="dcterms:W3CDTF">2013-04-10T11:05:06Z</dcterms:modified>
  <cp:revision>70</cp:revision>
  <dc:subject/>
  <dc:title>ΗΛΕΚΤΡΙΚΑ ΣΗΜΑΤΑ ΚΑΙ ΔΙΕΓΕΡΣΙΜΑ ΚΥΤΤΑΡΑ</dc:title>
</cp:coreProperties>
</file>